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C35-04F4-4CC0-B97A-F610AC60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6779-23A5-42ED-8ADC-29915F2B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9E4-806C-494A-8C88-A51D7BF7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1E2-73CA-4A43-8834-9B20242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795-39EA-41DA-A5FE-79A30DEF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A15-182D-4667-BCBA-F07F417E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0A9-50C8-4030-8828-208B0097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F08-C8B1-41F8-86E2-A278F80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170-3A52-4C45-8740-641F088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486-32E5-44E9-9115-BA6CAD38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D9C-FCFC-455D-9ED7-217902E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3D4-3139-4832-AC38-30D9868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9F0-64E1-40CE-B0BD-7AF6C7E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6A9-C3C4-414C-BB2C-B11F3D3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A0DB-206E-4641-8FE3-C232FBC8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59Z</dcterms:modified>
  <cp:revision>102</cp:revision>
  <dc:subject/>
  <dc:title>Profile</dc:title>
</cp:coreProperties>
</file>